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2A1-07BE-4251-B865-7686E440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4563-945B-47CD-A80E-E92B0FF2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119-C48D-4916-BCEA-E0D20A7A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16D-ADC5-4D8F-92EF-2E9FE7A3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91B6-2EBF-4F65-88E4-531A984E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03E1-A700-4B7B-B0F8-A7543921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19BA-45B6-46B4-A04E-B4C4F0A3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75C-CF9D-4E24-8415-36BD85FB5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C294-F43D-40A2-9100-E77F572E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3346-789A-4C17-B6F9-E56DEECC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A493-875A-4BDF-BAB8-23BF33AA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4F8-7798-45B4-9D99-2E116EE1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DB08-CDE4-434B-9C43-33D7054282DD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Jerry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Kick off workshop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Agenda</a:t>
            </a:r>
            <a:endParaRPr b="1" lang="en-US" sz="7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28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Lars Bonde, XinJuan Song, Arjen Broe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2-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econdition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setup (handover timeline preferences) per department agreed (detailed handover planning will be discussed in the workshop) (week 6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W estimation finished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lanning for “Work” is determined by SW, HW and S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imavera access for all PPL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Monday 13.02.06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0:00 – 10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Introduction / background (Koh Kheng Wah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0:30 – 11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urrent project setup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Organisation – Set-up BEJ and AAL – PL-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Communication scenarios, mailing lists PL-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1:00 – 12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ject statu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atus HW/MD/ID – Aalborg – HW-PP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tatus SW – Beijing – SW-PPL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e process (tailoring) – Thomas Bartel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Milestones for HW/SW/ST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Synchronization point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19960" indent="-223920">
              <a:lnSpc>
                <a:spcPct val="8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fine key activities (must have) for each milestones and nice to have’s (based on MEP 7.02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Tuesday 14.02.06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9:00 – 17:00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Work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plit in 3 main groups:  HW, SW and S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W: define work packages, feasibility study, CM scenario, contractors, contract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HW: 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review stack-up concept, mechanical design, layout, part list, supplier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ST: HW performance test, TA, Cradle/fixture, Test spec, R&amp;D support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Wednesday 15.02.06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9:00 – 12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Continue with work started on Tuesday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oject planning per department (PL-T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Create planning per department and define dependencie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Input planning in PV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Thursday 16.02.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00 – 9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totype shops (LCM1 &amp; 3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fine which prototype runs take place wher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30-12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reate handover planning (PPL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tailed step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13:30 – 16:00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Optimize planning (PL-T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Based on input from work-days and dependenc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Create committed milestone planning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6:00-17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onclusion (PL-T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Identify open action items and plan activiti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spcBef>
                <a:spcPts val="400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How far are we from S0/M1?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Benq</cp:lastModifiedBy>
  <dcterms:modified xsi:type="dcterms:W3CDTF">2006-02-06T08:45:27Z</dcterms:modified>
  <cp:revision>110</cp:revision>
  <dc:subject/>
  <dc:title>PowerPoint</dc:title>
</cp:coreProperties>
</file>